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16765"/>
        <c:axId val="65553242"/>
      </c:barChart>
      <c:catAx>
        <c:axId val="76916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53242"/>
        <c:crosses val="autoZero"/>
        <c:auto val="1"/>
        <c:lblAlgn val="ctr"/>
        <c:lblOffset val="100"/>
        <c:noMultiLvlLbl val="0"/>
      </c:catAx>
      <c:valAx>
        <c:axId val="65553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16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77F-101A-4567-B56A-B108B0B7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99D-5398-406A-A138-75090F21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180-965E-4CFE-AEB7-FC27FB79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8C8-10E1-46EF-B56D-461DB0AD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EC7-D2EC-40F9-A297-8EDABB20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2EC-45D5-4716-AA1B-9B9E246D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8B4-4D1D-4F63-84A9-B4CA4EC8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962-4BBC-47A8-9C3E-E2C0FBB1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E28-E456-4E23-9754-F07CAA13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1C8-35E9-4252-8E52-415FB5A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5B6-2037-4E87-9825-BA9CD970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4A1-9C35-4906-A271-188AA85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7F529-8309-4625-B185-B5908B9AF9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