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24715"/>
        <c:axId val="25798157"/>
      </c:barChart>
      <c:catAx>
        <c:axId val="5722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8157"/>
        <c:crosses val="autoZero"/>
        <c:auto val="1"/>
        <c:lblAlgn val="ctr"/>
        <c:lblOffset val="100"/>
        <c:noMultiLvlLbl val="0"/>
      </c:catAx>
      <c:valAx>
        <c:axId val="25798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806-BE17-4B42-8814-73E27AF8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FD8-3A01-4A36-9CA3-C44BBEA5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632-0304-4309-B762-210BC051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71F-968E-41D4-B963-E249151A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2DF-3FA1-4FEB-AD14-63296B4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D76-FA68-498F-B182-C698C93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C8A-0706-46E2-83A8-4E16900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282-7692-47E1-8D54-371ED249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37E-535E-4EB3-BBF4-DB891D6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136-5A40-4293-BC71-BC62283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FCD-FA0A-404A-B558-17162AA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302-774C-452B-B21E-9C4F15E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F6567-3F75-43FE-A933-6634D6090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