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22024"/>
        <c:axId val="67755956"/>
      </c:barChart>
      <c:catAx>
        <c:axId val="34422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55956"/>
        <c:crosses val="autoZero"/>
        <c:auto val="1"/>
        <c:lblAlgn val="ctr"/>
        <c:lblOffset val="100"/>
        <c:noMultiLvlLbl val="0"/>
      </c:catAx>
      <c:valAx>
        <c:axId val="67755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22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F28-457B-4D04-955C-7735B207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4D0-4B70-4F37-8EDC-EF19A5E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F08-82EF-47BC-903A-EB50EA08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453-70E2-4712-AFAA-02FA9528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2C-D366-411B-AE13-9C6FD12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6CD-A039-4450-A6A6-F457019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DA2-B147-4E2E-A6D5-EE9DB6B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B0A-F809-473F-85E0-2B1CC41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FEE-7DD8-4C5A-A43F-42CA1A83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AED-D2BF-4539-89FA-883075C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CCB-A008-4BAD-9F12-8D27E31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9D5-A8F8-4D57-8328-BE7F97A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D67C-1218-48B7-87F4-777C22BF2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